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2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2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2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F6FA-3A1F-4E40-90F2-F3DFCF78C4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B53B-7EBB-4296-93AD-A7AD2230B05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A80D-FFFA-4533-BAF6-4B1F5A9A61E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C17BB6-5202-4812-9239-1BC7A5AF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363DF8-36DE-4653-A432-E0792861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5C7250-E55F-4198-A3CA-BE680F84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E5FAF0-2252-47BF-98D1-C806BDAA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78861B-FB07-4CD7-BDBF-31CA92FE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222BE3-C284-4BAA-88EA-586F5CB7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0BD3A6-A5DC-4E53-BBDA-77AB6140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A1CDB6-3AC1-413E-914F-B967D2CC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00CA33-5FD0-4899-88FB-BCD6C252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114912-ABB7-47A9-B63B-1F480F97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CD4658-543E-448D-8D90-1008E321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3F2B8E-2FE1-40C0-A21B-0347CB45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FCA2E3-E4D6-4E59-9403-F7DC21B7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32BC70-26D9-4398-B70B-DC38D2A3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1F4935-4D6F-4AE1-A8EB-78C8D2F1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112FB2-CA61-406B-90B1-D64E40A0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6AC69F-67A4-4581-9E09-AB5757C1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3D6190-0283-4AAA-B8C5-43ADF6E9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D5E659-8CF1-4F19-832E-7298EAEE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2000F8-FFF8-4E7D-B547-06207518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01AF3A-1AEB-455E-9F12-B54E9A17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9BFBC-44DD-4456-B64B-539BE50B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8814F-293E-4BE2-AD19-58537B8B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00E6B-88D6-42E6-8CB8-988F9C9B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BDEC5-CDC5-4A8F-9C7F-6AC336C3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BA0DD-D1D3-473A-83D4-5240B256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D4277-86B1-40C4-83B9-1D639507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F311A-2E7A-4D86-9003-EC52F118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E5788-72A3-49C1-BF91-36ED46AB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98C3F-412E-4212-BAD8-67F05D0B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357C4-A322-47E2-9D4A-3411049498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5EC5E-941D-4998-9270-F4E87382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4A702-30F2-4E3A-AFCF-1987FC18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9E669-685B-4297-BD1A-EBC4ED5A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9F00-C570-44BE-A2BE-DED099A2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6F218-4134-4BD7-BC21-FF404318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92CCC-956B-4D77-8A47-80B07BAE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BF39-7973-4E9D-9D2E-F0E14FE1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14978-E81D-43A8-B531-11E32964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E05F-5B74-421A-BD5C-06C627D4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82C28-3815-469D-AEFE-B3E4F2F7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6D9F-EF40-4F8E-9F07-DF8F48B2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EE53-B608-4C28-8C2D-A4F4CDA8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4EB24-D250-413C-A757-C2153C30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B8ACA-FE59-4C15-8B63-3AFC424639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5DC47-F67D-4354-9742-52362126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424EE-3110-4F1B-BB05-8F0BDA96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610E6-711F-4CFE-82CF-6F408C83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059FC-637B-45E4-BC52-E3633566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11A8E-5086-4181-A14D-CD88A680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86F85-EE92-4944-A283-0EE83EA8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A0927-010E-408B-95A8-E89C8074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AAAE4-710E-438A-AC8F-B9899A9B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34AE8-2190-4F35-B94A-81D3ACBF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46EE9-D63A-48FB-9D8E-589FB35B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93CF0-86D1-4BFA-93C2-A3238074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402F6-5086-40EB-BF48-EA829EC3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9AA9BA-F3C1-440B-8E90-4EA7E99B7D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8B06F0-9B70-4955-8F0C-B1B4BB0C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ABA76B-9469-4D25-B88F-6206F6F2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991AEA-4EB2-4762-9E7D-2E168544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76FA78-93D3-4852-81B4-9C4F143D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AD4B23-20F7-4F49-AF48-09455D7F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32A99C-DCA5-4FA5-88E8-8783E25D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8F89C2-3E96-4228-AE62-FE209076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420AC5-2B90-43BE-9A65-E4BC4C01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F870F1-413C-440A-ABBB-4900D7C6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2350E8-859D-409E-AEEE-7AA79666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4BB8EA-8049-4271-BDFD-046B78FA89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498B88-7444-4F5A-838C-A193FAA7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348485-C90B-4DE9-9830-EED68D8D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D8AC71-6DB4-4D91-8A55-D501CEE0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6D5E2A-146B-4F29-97B9-8AC77918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949FA-206B-402B-9DF7-12E7618B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FE95FE-9B0D-42D2-8367-D88CFAA3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BED504-78B3-47EF-91C6-348FDF37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D0209-70B5-47B4-AA24-E369E4ED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566AEE-C4AD-45C6-9A30-C3009444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7E95E-0C9F-4EE6-8D88-C85A6CEC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E5630D-4650-444F-A91C-FD86C1FA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7DAB12-2570-4168-81DE-AE9B5EF1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7C7820-464F-431A-B56B-A21A8DDE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83A1E3-7906-4A0D-A4AE-42C6E536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526199-F641-40F8-B3D6-1831D6C6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724D28-9BEE-4770-8458-87F3F61A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552BDF-078E-4EEB-9C17-BF0AC0D0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DD3423-7F2C-4731-911E-8C6D4894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6F3521-4BF5-4C43-B55B-C5B3FBA8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B884CC-8801-4D31-98B8-6C6F3860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FA5A1C-1946-417A-9F79-DA55F8F1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853D5D-5221-4F54-BD1F-1AA76405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055BD8-259D-4004-8E0C-28D016F0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5A7999-0BF8-4836-AEB8-4D1B0291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8E4118-DB34-4DBB-BB75-D4DC3DB6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855A71-C1A2-4457-AA03-6B69DBE4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722F8C-04E8-45E6-B326-49BDDAC9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19130B-B50D-4B61-A8AB-73128FBD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D70C99-20F6-46F2-A844-5D609DAF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5F5A73-AD41-4C37-925F-654A2BB9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5EC6FF-BD46-4B5D-992C-5A118B5D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FC8719-A27C-4289-B123-61F0D65C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E1B100-F438-458A-846A-E5213E35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4984F0-DB81-4862-A100-545DE155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16948F-EBA4-4920-8DF8-64E48EB9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2B5EDF-D58D-4470-A5DC-E2EDE2BE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139EC6-6A4D-44BE-9F2A-5A05050D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C075F3-582D-46DF-803E-83334446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6205EE-4AD8-484C-9305-819C9B9A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1847"/>
              </a:gs>
              <a:gs pos="100000">
                <a:srgbClr val="003399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847"/>
              </a:gs>
            </a:gsLst>
            <a:lin ang="5400000"/>
          </a:gradFill>
          <a:ln w="9360">
            <a:solidFill>
              <a:srgbClr val="00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Picture 5" descr="Graphic1"/>
          <p:cNvPicPr/>
          <p:nvPr/>
        </p:nvPicPr>
        <p:blipFill>
          <a:blip r:embed="rId2"/>
          <a:stretch/>
        </p:blipFill>
        <p:spPr>
          <a:xfrm>
            <a:off x="8299440" y="6446880"/>
            <a:ext cx="68580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6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07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8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0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1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682C-1D0C-403C-B1B6-FF30F89B03B5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E3C7-68F5-4018-A130-1F77B1B19EA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4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45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CF0E-6C7D-4A36-9752-381C5C27B0FE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C59E-65DD-4EEB-BE7F-023041A44B7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28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8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tional Institute for Smart Governm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rchitecting e-Govern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Rectangle 1030"/>
          <p:cNvSpPr/>
          <p:nvPr/>
        </p:nvSpPr>
        <p:spPr>
          <a:xfrm>
            <a:off x="0" y="304920"/>
            <a:ext cx="9144000" cy="1447560"/>
          </a:xfrm>
          <a:prstGeom prst="rect">
            <a:avLst/>
          </a:prstGeom>
          <a:gradFill rotWithShape="0">
            <a:gsLst>
              <a:gs pos="0">
                <a:srgbClr val="001847"/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Picture 1033" descr="nisg1"/>
          <p:cNvPicPr/>
          <p:nvPr/>
        </p:nvPicPr>
        <p:blipFill>
          <a:blip r:embed="rId2"/>
          <a:srcRect l="5047" t="4486" r="25233" b="0"/>
          <a:stretch/>
        </p:blipFill>
        <p:spPr>
          <a:xfrm>
            <a:off x="1981080" y="304920"/>
            <a:ext cx="1398600" cy="1447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1847"/>
              </a:gs>
              <a:gs pos="100000">
                <a:srgbClr val="003399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7238880" y="647712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277E-62BC-41BB-8EF0-411F902E4A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1847"/>
              </a:gs>
              <a:gs pos="100000">
                <a:srgbClr val="003399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847"/>
              </a:gs>
            </a:gsLst>
            <a:lin ang="5400000"/>
          </a:gradFill>
          <a:ln w="9360">
            <a:solidFill>
              <a:srgbClr val="00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Picture 5" descr="Graphic1"/>
          <p:cNvPicPr/>
          <p:nvPr/>
        </p:nvPicPr>
        <p:blipFill>
          <a:blip r:embed="rId2"/>
          <a:stretch/>
        </p:blipFill>
        <p:spPr>
          <a:xfrm>
            <a:off x="8299440" y="6446880"/>
            <a:ext cx="68580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2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6131-FC00-4A31-943F-1530C773EC0C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8982-49CE-4616-AAC6-3B6F49E055E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28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8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tional Institute for Smart Governm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rchitecting e-Govern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1030"/>
          <p:cNvSpPr/>
          <p:nvPr/>
        </p:nvSpPr>
        <p:spPr>
          <a:xfrm>
            <a:off x="0" y="304920"/>
            <a:ext cx="9144000" cy="1447560"/>
          </a:xfrm>
          <a:prstGeom prst="rect">
            <a:avLst/>
          </a:prstGeom>
          <a:gradFill rotWithShape="0">
            <a:gsLst>
              <a:gs pos="0">
                <a:srgbClr val="001847"/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1033" descr="nisg1"/>
          <p:cNvPicPr/>
          <p:nvPr/>
        </p:nvPicPr>
        <p:blipFill>
          <a:blip r:embed="rId2"/>
          <a:srcRect l="5047" t="4486" r="25233" b="0"/>
          <a:stretch/>
        </p:blipFill>
        <p:spPr>
          <a:xfrm>
            <a:off x="1981080" y="304920"/>
            <a:ext cx="1398600" cy="1447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1847"/>
              </a:gs>
              <a:gs pos="100000">
                <a:srgbClr val="003399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6"/>
          </p:nvPr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7238880" y="647712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6214-E7FE-4819-A119-17D5DF0BC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5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16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5DED-7D34-43C9-9438-94A19AD37E5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C8E2-E9D6-4AB9-B22C-CC76FFC2B14F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045D-7F98-4661-A8B0-9CEAE1526A9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0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11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2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B4E9-59AE-44E0-BE51-F4D756BAE58D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0363-F1E7-4974-85B4-9AAE3BBE8ED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8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5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DAD1-7E11-4413-B87A-0D0D7E9D991D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1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1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895B-BC4F-492C-86A4-E4DEE9BECBA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ational Institute for Smart Government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Sanjiv Mital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63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Chief Executive Officer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63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 March 201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10" name="Picture 4" descr="nisglogo copy"/>
          <p:cNvPicPr/>
          <p:nvPr/>
        </p:nvPicPr>
        <p:blipFill>
          <a:blip r:embed="rId1"/>
          <a:stretch/>
        </p:blipFill>
        <p:spPr>
          <a:xfrm>
            <a:off x="6934320" y="5943600"/>
            <a:ext cx="220968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6e7fc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NISG stands for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21528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Citizen Centric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Services  orienta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Institutionaliza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On investments, partnership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Outcome - usage – impac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Process Re-design Need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0" y="5486400"/>
            <a:ext cx="9144000" cy="581400"/>
          </a:xfrm>
          <a:prstGeom prst="rect">
            <a:avLst/>
          </a:prstGeom>
          <a:solidFill>
            <a:srgbClr val="8f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93e0"/>
                </a:solidFill>
                <a:latin typeface="Verdana"/>
              </a:rPr>
              <a:t>A point of view that is appreciated global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6e7fc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Focused Direct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04920" y="2610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For creating sustainable PPP models for e Governme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For synergizing the efforts of multiple agencies for a common purpos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For planning well, starting small and scaling quickl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In making the e Government projects commercially viable investment opportuniti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6e7fc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Demonstrated the Possibiliti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Private investments - Investments of more than 2500 crores in the last three yea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Completion of large projects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Changes in process, legal syste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Transparency, performance orientation, citizen foc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Changes in attitud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335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6e7fc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Welcome you to explo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exciting world of e-Government!</a:t>
            </a:r>
            <a:br>
              <a:rPr sz="3200"/>
            </a:b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“Be the Change you want the World to see”</a:t>
            </a:r>
            <a:br>
              <a:rPr sz="32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              - Mahatma Gandhi</a:t>
            </a:r>
            <a:r>
              <a:rPr b="0" lang="en-US" sz="32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nisglogo copy"/>
          <p:cNvPicPr/>
          <p:nvPr/>
        </p:nvPicPr>
        <p:blipFill>
          <a:blip r:embed="rId1"/>
          <a:stretch/>
        </p:blipFill>
        <p:spPr>
          <a:xfrm>
            <a:off x="6629400" y="5943600"/>
            <a:ext cx="2514600" cy="9428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TextBox 4"/>
          <p:cNvSpPr/>
          <p:nvPr/>
        </p:nvSpPr>
        <p:spPr>
          <a:xfrm>
            <a:off x="3124080" y="3043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Verdana"/>
                <a:ea typeface="ＭＳ Ｐゴシック"/>
              </a:rPr>
              <a:t>www.nisg.or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211248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Vision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1" lang="en-IN" sz="2000" spc="-1" strike="noStrike">
                <a:solidFill>
                  <a:srgbClr val="404040"/>
                </a:solidFill>
                <a:latin typeface="Candara"/>
              </a:rPr>
              <a:t>“</a:t>
            </a:r>
            <a:r>
              <a:rPr b="1" lang="en-IN" sz="2000" spc="-1" strike="noStrike">
                <a:solidFill>
                  <a:srgbClr val="404040"/>
                </a:solidFill>
                <a:latin typeface="Candara"/>
              </a:rPr>
              <a:t>Make all Government services accessible to the common man in his locality, through common service delivery outlets and  ensure efficiency, transparency &amp; reliability of such services at affordable costs to realise the basic needs of the common man.”</a:t>
            </a:r>
            <a:r>
              <a:rPr b="0" i="1" lang="en-IN" sz="20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i="1" lang="en-IN" sz="20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i="1" lang="en-IN" sz="20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i="1" lang="en-IN" sz="2000" spc="-1" strike="noStrike">
                <a:solidFill>
                  <a:srgbClr val="404040"/>
                </a:solidFill>
                <a:latin typeface="Candara"/>
              </a:rPr>
              <a:t>	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404040"/>
                </a:solidFill>
                <a:latin typeface="Candara"/>
              </a:rPr>
              <a:t>NeGP approved by the Cabinet in May 2006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ational e Governance Plan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13" name="Picture 2" descr="C:\Users\Aruna\AppData\Local\Microsoft\Windows\Temporary Internet Files\Low\Content.IE5\KHLC23PF\j0441394[1].png"/>
          <p:cNvPicPr/>
          <p:nvPr/>
        </p:nvPicPr>
        <p:blipFill>
          <a:blip r:embed="rId1"/>
          <a:stretch/>
        </p:blipFill>
        <p:spPr>
          <a:xfrm>
            <a:off x="6934320" y="4724280"/>
            <a:ext cx="22096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2381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aunched in May, 2006  to improve public service delivery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13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NeGP Includes 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27 Mission Mode Projects (</a:t>
            </a:r>
            <a:r>
              <a:rPr b="0" lang="en-US" sz="2000" spc="-1" strike="noStrike" u="sng">
                <a:solidFill>
                  <a:srgbClr val="0080ff"/>
                </a:solidFill>
                <a:uFillTx/>
                <a:latin typeface="Candara"/>
                <a:hlinkClick r:id="rId1" action="ppaction://hlinksldjump"/>
              </a:rPr>
              <a:t>MMPs</a:t>
            </a: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Core infrastructure components - Service Centres, Data Centres and Wide Area Network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eb enabled delivery of services &amp; service level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Process re-engineering, change management and project manageme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entralized Initiative - Decentralized Implementation : emphasis on PP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National e Governance Plan (NeGP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57200" y="23050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Incorporated in May 200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Became fully operational in 2004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Registered as a Not-for-Profit company under the section 25 of the companies ac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Built on public private partnership mod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Governed by board of directors comprising senior civil servants and public figur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ISG - Genesi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720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3e87"/>
                </a:solidFill>
                <a:latin typeface="Candara"/>
              </a:rPr>
              <a:t>To establish itself as a Centre of Excellence in e-Government &amp; to leverage private sector resources through  PPP mode for the spread of e-Governanc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52e65"/>
                </a:solidFill>
                <a:latin typeface="Candara"/>
              </a:rPr>
              <a:t>To facilitate application of public and private resources to e-Governance i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SzPct val="4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Strategic Planning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SzPct val="4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Project Develop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SzPct val="4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Capacity Building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SzPct val="4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Vision &amp; Mission - NIS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23050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To be the institution that bridges all the gap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Channelize private resources and competencies into e Governance effor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Act as a ‘force multiplier’ to leverage ICT for better citizen service deliver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Suggest high impact e Governance model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Raise societal awareness about economic impact of smart Governanc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Be the Center of Excellence in e Governanc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6e7fc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Mandate of NIS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668160" y="5786280"/>
            <a:ext cx="4970520" cy="459720"/>
          </a:xfrm>
          <a:prstGeom prst="rect">
            <a:avLst/>
          </a:prstGeom>
          <a:solidFill>
            <a:srgbClr val="8f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6296"/>
                </a:solidFill>
                <a:latin typeface="Verdana"/>
              </a:rPr>
              <a:t>Accountability of Public Se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4260960" y="6396120"/>
            <a:ext cx="3954240" cy="459720"/>
          </a:xfrm>
          <a:prstGeom prst="rect">
            <a:avLst/>
          </a:prstGeom>
          <a:solidFill>
            <a:srgbClr val="8f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6296"/>
                </a:solidFill>
                <a:latin typeface="Verdana"/>
              </a:rPr>
              <a:t>Flexibility of Private Se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19242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NISG provides these services to Ministri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trategic Consult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657360" indent="-246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Study on Current process, Defining scope, RFP, Selection of right SI’s, etc.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Project Consult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657360" indent="-246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Detailed Project Report, Procurement Process, Bid Management, be the core team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Program Management Uni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657360" indent="-246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Setting up of PMU within Ministrie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raining and Capacity Build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657360" indent="-246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Staffing , Change Management, Build pool of Talent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ISG - Charter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6" name="TextBox 1"/>
          <p:cNvSpPr/>
          <p:nvPr/>
        </p:nvSpPr>
        <p:spPr>
          <a:xfrm>
            <a:off x="0" y="6097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Candara"/>
              </a:rPr>
              <a:t>NISG strategy is to fill the critical gaps for e Governance within the customer organiz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19238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1800" spc="-1" strike="noStrike">
                <a:solidFill>
                  <a:srgbClr val="404040"/>
                </a:solidFill>
                <a:latin typeface="Candara"/>
              </a:rPr>
              <a:t>NISG's expertise  in e-governance  provides a spark to those keen on ushering in good governance through transformation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Govt. Process Reengineer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29" name="Picture 3" descr="http://www.nisg.org/nisg_imgs/42_transformation%20v4.0.jpg"/>
          <p:cNvPicPr/>
          <p:nvPr/>
        </p:nvPicPr>
        <p:blipFill>
          <a:blip r:embed="rId1"/>
          <a:stretch/>
        </p:blipFill>
        <p:spPr>
          <a:xfrm>
            <a:off x="762120" y="2362320"/>
            <a:ext cx="73911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ome Projects At a Glance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314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ndara"/>
              </a:rPr>
              <a:t>Central Government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Ministry of Commerce  - </a:t>
            </a:r>
            <a:r>
              <a:rPr b="0" lang="en-IN" sz="1400" spc="-1" strike="noStrike">
                <a:solidFill>
                  <a:srgbClr val="404040"/>
                </a:solidFill>
                <a:latin typeface="Candara"/>
              </a:rPr>
              <a:t>Department  of Industrial Policy &amp; Promotion  - eBiz , e-Government Procurement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Department of Food &amp; Public Distribution 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TPDS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Ministry of Labour &amp; Employment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Employment Exchange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Department of Agriculture 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Agri MMP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Ministry of External Affairs 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Passport Seva Project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Ministry of Home Affairs  - </a:t>
            </a:r>
            <a:r>
              <a:rPr b="0" lang="en-IN" sz="1400" spc="-1" strike="noStrike">
                <a:solidFill>
                  <a:srgbClr val="404040"/>
                </a:solidFill>
                <a:latin typeface="Candara"/>
              </a:rPr>
              <a:t>CCTNS, Immigration, Visa, Foreigners Registration &amp; Tracking (IVFRT)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Ministry of Overseas Indian Affairs </a:t>
            </a:r>
            <a:r>
              <a:rPr b="1" lang="en-IN" sz="1400" spc="-1" strike="noStrike">
                <a:solidFill>
                  <a:srgbClr val="404040"/>
                </a:solidFill>
                <a:latin typeface="Candara"/>
              </a:rPr>
              <a:t> - </a:t>
            </a:r>
            <a:r>
              <a:rPr b="0" lang="en-IN" sz="1400" spc="-1" strike="noStrike">
                <a:solidFill>
                  <a:srgbClr val="404040"/>
                </a:solidFill>
                <a:latin typeface="Candara"/>
              </a:rPr>
              <a:t>E governance in e Migrate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Ministry of Corporate Affairs 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Comprehensive Restructuring &amp; e Enablement of ITPO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Planning Commission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UID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Ministry of Health 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Food Import Information System 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ndara"/>
              </a:rPr>
              <a:t>State Government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Delhi 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IT/Excise, Jal Board, WTDMS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Karnataka, U.P. , Delhi, Rajasthan, Orissa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– CCTNS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West Bengal 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State Assisted Scheme for PF for Unorganized Workers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Kerala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E Government procurement for Kerala State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Andhra Pradesh – Department of Health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Orissa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  - Urban CSC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ndara"/>
              </a:rPr>
              <a:t>PSU  - </a:t>
            </a:r>
            <a:r>
              <a:rPr b="0" lang="en-IN" sz="1400" spc="-1" strike="noStrike">
                <a:solidFill>
                  <a:srgbClr val="404040"/>
                </a:solidFill>
                <a:latin typeface="Candara"/>
              </a:rPr>
              <a:t>Bharat Dynamics Limited , Mormugoa Port Trust ,  Central Warehousing Corporation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lvl="1" marL="379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04:28:24Z</dcterms:created>
  <dc:creator>Rita</dc:creator>
  <dc:description/>
  <dc:language>en-US</dc:language>
  <cp:lastModifiedBy>Veerraju</cp:lastModifiedBy>
  <dcterms:modified xsi:type="dcterms:W3CDTF">2014-03-09T17:21:53Z</dcterms:modified>
  <cp:revision>524</cp:revision>
  <dc:subject/>
  <dc:title>Integrated Warehouse Management System</dc:title>
</cp:coreProperties>
</file>